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C284-73B0-4435-909E-A67385D05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54C5-0CA9-41F0-8E65-9EEB77DE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B2D7-985D-4DA6-89C7-A04D5EDE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B58A-F356-4256-9E57-2BA0D25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1D73-BCE5-4BB0-88E9-AF9E11A9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1A0C-7852-48AC-B247-C590D1B1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BF3C-5F78-4B55-A1B1-3BF0517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0D0-86B3-446E-8646-A20A72E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94D-D9D9-457B-BB12-8A82279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0EB9-C96A-4036-99EB-6503EAB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964-7740-42CE-B2E3-BEAE5DFC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2E7-5AC9-46E4-9522-3AB2884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CFAB-1E48-4306-948C-4CA0F7A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015-AA39-4640-9FEF-701C171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8732-ED3F-41C3-835B-72AACB2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F9E6-11E8-4DD4-A56E-CDCAFBD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EC9-FC38-4436-8569-D9460839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46B9-11A7-4CB3-A3D3-BA9C8BB1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0ECC-813C-4EE5-A74A-D62C0DC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4287-72CA-4B12-B1A1-B152917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02E0-1661-4CAD-A997-462581E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44FB-AF36-43EB-8D38-9DC6431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3FD4-9FDF-4591-A25B-BE84220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83C1-3459-449F-8064-A7AC567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0561-7FB2-4C79-9FCB-5ECCB07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B9A-D03D-4845-B980-E192B9617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FFC-852A-48DE-B452-ACFF426609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t Examples of Manifest Desti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estions to ask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ow does the artist portray the contrast between East (civilization) and the West (the frontier)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visual elements signify “wilderness”?  Which signify “civilization”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role do the Native Americans play in this imag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32987" t="31591" r="9376" b="862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rcRect l="0" t="46430" r="46494" b="0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rcRect l="41026" t="41667" r="0" b="0"/>
          <a:stretch/>
        </p:blipFill>
        <p:spPr>
          <a:xfrm>
            <a:off x="0" y="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4169" t="41394" r="41492" b="1565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2:20:05Z</dcterms:created>
  <dc:creator>Brent J. Freccia</dc:creator>
  <dc:description/>
  <dc:language>en-US</dc:language>
  <cp:lastModifiedBy>Christina School District</cp:lastModifiedBy>
  <dcterms:modified xsi:type="dcterms:W3CDTF">2009-10-01T15:44:11Z</dcterms:modified>
  <cp:revision>3</cp:revision>
  <dc:subject/>
  <dc:title>PowerPoint Presentation</dc:title>
</cp:coreProperties>
</file>